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EBB-074B-494E-83C0-23635C80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8CF-DE37-4039-A41A-8462382A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80A-CFAA-4EE7-A684-A767D8AB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46C-D5F1-4CF6-BF24-ACC45A65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EB9-2A27-4052-A7F1-64D1DC6E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CFA-77D6-45F4-8B6E-3D11A5F9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9DB-E776-494C-9A3F-BF9F552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3C-2CC0-4E8F-8D7F-A5F65736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18C-9152-4521-B8E6-91505ABF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D83-9183-4DAD-869D-6AABEA1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377-38DB-4B43-8423-474BA00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985-4FD4-4958-975F-621239F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88D-1E15-49E3-A141-8BCFAE1A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P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cca Hutch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4745160"/>
            <a:ext cx="2590920" cy="211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2104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2971800" cy="24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2590920" cy="211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200400" y="2514600"/>
            <a:ext cx="274320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4621320"/>
            <a:ext cx="2743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38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28195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2362320"/>
            <a:ext cx="2819520" cy="229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2666880" cy="21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4567320"/>
            <a:ext cx="2819520" cy="229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352680" y="4505400"/>
            <a:ext cx="2895840" cy="235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77120" y="4691160"/>
            <a:ext cx="26668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95480" y="0"/>
            <a:ext cx="2438640" cy="201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2514600" cy="207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2362320"/>
            <a:ext cx="2362320" cy="195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819520" y="2209680"/>
            <a:ext cx="2666880" cy="21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715000" y="2209680"/>
            <a:ext cx="2438280" cy="198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52280" y="4495680"/>
            <a:ext cx="2387880" cy="19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971800" y="4419720"/>
            <a:ext cx="2463840" cy="200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5791320" y="4419720"/>
            <a:ext cx="2539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75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2133720" cy="175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1981080" cy="16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14600" y="1981080"/>
            <a:ext cx="1981080" cy="160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800600" y="17524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0" y="3886200"/>
            <a:ext cx="2108160" cy="1712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438280" y="3733920"/>
            <a:ext cx="2489400" cy="2022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029200" y="3809880"/>
            <a:ext cx="243828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53080" y="4757760"/>
            <a:ext cx="2590920" cy="2100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2362320" cy="189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880" y="5127480"/>
            <a:ext cx="2133720" cy="173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133720" y="609480"/>
            <a:ext cx="2057400" cy="166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162920" y="914400"/>
            <a:ext cx="1981080" cy="160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447920" y="2666880"/>
            <a:ext cx="2361960" cy="191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724280" y="2819520"/>
            <a:ext cx="1981440" cy="1625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086600" y="2971800"/>
            <a:ext cx="2057400" cy="166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495680" y="609480"/>
            <a:ext cx="2362320" cy="191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3886200" y="4819680"/>
            <a:ext cx="2514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10280" y="5135400"/>
            <a:ext cx="2133720" cy="172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112760"/>
            <a:ext cx="2209680" cy="176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950000"/>
            <a:ext cx="2362320" cy="19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52280" y="2971800"/>
            <a:ext cx="2133720" cy="17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362320" y="3276720"/>
            <a:ext cx="2133360" cy="172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648320" y="3352680"/>
            <a:ext cx="2057400" cy="1681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724280" y="1371600"/>
            <a:ext cx="2133720" cy="17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438280" y="5195880"/>
            <a:ext cx="2057400" cy="16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4572000" y="5135400"/>
            <a:ext cx="213372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6:51:37Z</dcterms:created>
  <dc:creator>School of Computer Science</dc:creator>
  <dc:description/>
  <dc:language>en-US</dc:language>
  <cp:lastModifiedBy>School of Computer Science</cp:lastModifiedBy>
  <dcterms:modified xsi:type="dcterms:W3CDTF">2005-05-10T17:09:53Z</dcterms:modified>
  <cp:revision>2</cp:revision>
  <dc:subject/>
  <dc:title>Synthetic PS results</dc:title>
</cp:coreProperties>
</file>